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0E55-6CBB-4519-8D4A-2EB2323A8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0464-058C-4063-ADF4-75E6E5AC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F4D0-4B39-4435-8A9E-DFF5D48A7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9973-428E-4CE3-93B5-7107EF6A6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1824-1B4F-4F96-A3CC-2D995DCB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5481-73FE-49B3-AD3E-6B175531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85CB-08AD-4577-BDFD-8DE7924E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548C-6C60-42DC-A020-860178AE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455E-0179-44B3-81A8-B80EA0A8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2B60-C0B9-4F2B-85D8-D79BDCC9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21E7-75AC-4CDF-8DF3-5776967A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0DFC-13A3-45E2-80B7-1C48ECA6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79A1-658B-4520-A4EF-1112E9E6D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4984635MkzJLmQBtT_ph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791320" y="304920"/>
            <a:ext cx="3047760" cy="86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رن صوتٌ في الأعالي يا تُرى ماذا الخب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ولم الأملاك تشدو بترانيم الظف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كلهم في المجد غنى بأناشيد السرو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قد بدا أمر عجيب، رحمة الله الغفور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4458854PUJPRwcavG_ph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5880" y="228600"/>
            <a:ext cx="3048120" cy="9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أيها الرعاة هبوا وانظروا الرب المجي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أنه قد صار طفلاً باتضاع كالعبي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مجدوه هللويا مجدوه في العل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مجدوه هللويا إنه فادي المل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7008148cyXWYqGQCr_ph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562720" y="457200"/>
            <a:ext cx="3276360" cy="89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0080"/>
                </a:solidFill>
                <a:latin typeface="Times New Roman"/>
                <a:cs typeface="Arabic Transparent"/>
              </a:rPr>
              <a:t>فعلى الأرض سلام وسرور للبش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0080"/>
                </a:solidFill>
                <a:latin typeface="Times New Roman"/>
                <a:cs typeface="Arabic Transparent"/>
              </a:rPr>
              <a:t>إذ أتى الفادي المنجي والمسيح المنتظ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0080"/>
                </a:solidFill>
                <a:latin typeface="Times New Roman"/>
                <a:cs typeface="Arabic Transparent"/>
              </a:rPr>
              <a:t>فليرن الصوت دوماً مع قياثر الذه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0080"/>
                </a:solidFill>
                <a:latin typeface="Times New Roman"/>
                <a:cs typeface="Arabic Transparent"/>
              </a:rPr>
              <a:t>هللويا قد فدانا ولنا البرّ وَه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9T10:18:52Z</dcterms:created>
  <dc:creator>SUZANNE.MD</dc:creator>
  <dc:description/>
  <dc:language>en-US</dc:language>
  <cp:lastModifiedBy>USER</cp:lastModifiedBy>
  <dcterms:modified xsi:type="dcterms:W3CDTF">2002-12-19T11:12:11Z</dcterms:modified>
  <cp:revision>1</cp:revision>
  <dc:subject/>
  <dc:title>PowerPoint Presentation</dc:title>
</cp:coreProperties>
</file>